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1F9-E5F3-41FB-8779-DD7E39E8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518-99E8-4926-B465-EB8C3C95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122C1-1B01-40E2-BB1A-2458914D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D7B81-C393-48B5-AE0E-4D33FD15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DECB2-0C38-43D4-833E-0B26820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63305-74D3-4D17-867C-72F0013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91157-AFEC-4536-8013-559D906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7D9D5-71A3-4A40-B1E0-911C3FE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DC00-0EB9-4138-A67E-CE0B686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4ABCF-FD53-468E-B3FE-1FC9127E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E66C7-4671-4DF6-B480-E0BB3AF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D7FD4-8BD8-4CFE-8C8C-33CE347F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959-6F54-4854-BE39-AB5E533F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12142-899C-47A2-A9CA-4559423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56139-7FB2-496D-9D4D-396813F7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0EE57-2981-4F19-9D2D-B7512FF7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6B78E-C8D8-4820-B65E-503B84E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920E4-5CB8-4283-83BF-9F2755DF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338B8-41BC-4B3E-B6CA-F2DDE483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F7AD-E8F5-480B-A051-38F8A1D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23964-3CB1-4614-B275-24E573F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0927-C678-46F6-B55B-61190B8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ACC0E-66D2-41E6-8B60-9E404FBC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4B1-AD20-4042-8B78-A2AF73E6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F130D-DBAF-499C-8584-484037AA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5E05-D992-4804-97BB-4ABECD49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6278-2BA3-42A6-B52A-FA153F6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D73A9-E60E-4498-B379-FECF3CC8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42713-8732-4954-B4D9-146B0BB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495FD-B571-4FD7-BE71-0153E003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BFD27-D77A-43A8-A452-E5457AB4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00FA6-4877-4E68-8199-97AC4694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24258-86B9-48C5-8245-58B120B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98F07-B7FB-4349-B5C7-22C8046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E63-5284-4185-A3A8-5A6EC416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9619D-00A9-43BB-95DD-30773C9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49343-7397-4838-A96A-69CAD075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352CE-F824-4B89-A5C5-3B34FADC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C7C6A-8F68-40A7-9648-CB578FB8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00D85-5D3A-4551-A121-08302DE8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4CE6D-83E8-4698-A50F-79D6285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12231-7CEB-4154-911E-0B46B24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BBE04-EB19-4E5D-961E-AE471D73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C4179-48CD-4F8A-B194-CB7DDE3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194C2-5AF3-4BA3-B76E-3165EA1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F0A7-D359-4281-B91A-28D4CE4F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6814B-B8AC-41A6-ABA8-0C7592E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6DFF5-BF52-4FC3-BF16-9CECB52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27C3B-F21F-4473-8A1C-EEA38B3C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215E8-C072-4E82-8701-680B92F6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923A1-E607-4754-9236-C2363614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76E2B-DCC9-4BBB-B9D1-CC7AD970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27A50-DB6F-46D7-91D0-47090D75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0350E-DE4B-48C0-9D88-3DE5B9A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A72BA-DB87-477E-A258-4758F9BE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94942-5882-4AA1-BA7C-EBF4F4BB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E22A-9925-4A31-9642-243C7291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9E007-B274-4641-BB32-8A3226A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4B5B3-D799-49E8-8DED-F272AC0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94974-4214-4B94-ADA9-96F50E4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B05E5-F108-492B-ABCF-E8BE91F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001CE-101C-47E4-BAF6-9ED53A3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0D3C6-E643-4AF3-8F0F-8CD179F6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94B07-56D0-4B7A-89D7-5010D58E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88CF32-06E3-4EFD-BA9B-AC833420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7BA9C-B9D8-46C1-A85B-52C02CE2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07799-0BA3-4A0D-8DB9-4CADF18F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404-6E74-442A-8717-E28F0EF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4A47C-6430-4BDC-B50C-1D61AB8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A9758-986E-4FD4-ACEE-3A5F409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A2EB0-F315-4702-9A70-A55A30D1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41CFF-73C0-4684-A06F-9AB3C9D9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8F1A5-2613-4065-A7FB-EE41243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3B661-242A-4369-8423-F3F0CBF0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D0BD4-5364-43B9-94B9-C627D646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24BB2D-8362-486D-B7D0-3F6BB9D4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6EB8E-7531-4372-958B-818BE161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71D14-6186-407E-AA53-EF226CB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D220-9CE6-4C03-9506-1DBC818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E23991-1C7D-488D-90E9-3404FC7B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68580F-961C-4D45-8581-878AE7C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B344F-F048-43C1-A8F0-76ADBBB9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F0070-2969-41BE-A965-43B35C46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38CB1-4A95-45E5-9605-6E6A068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3D1A6-1C77-445B-A607-18514DF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C796A-0E55-4FD6-AC40-83CFE64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3D10E-168A-4B88-BC7B-397BA76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9678E-2555-48DA-8A8D-85FF4D5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37503-5863-442A-9307-1ECFDE1C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D795-7CF7-4977-BFA9-27838F15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AB9249-BF0E-4348-AA7D-09B76619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1648F-67DE-4363-AD19-70F08D72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7E1A3-3540-4151-9D03-6EE9AB8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64AD3-3D30-4B05-B3C1-1ABEB12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A0D94-52F9-4C36-B6FB-0416FD89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FC7AB-0453-4E68-85D4-9EAA71F3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11E957-61D6-4C98-8555-715E15A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2F385-0ED8-4323-9539-B8567BC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6AD60-D9C0-4258-A340-0F53A03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61D02-1F44-4DB2-BACE-D8EE2FB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44FF-FD3D-4E5F-B0E7-52F13CD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B13E1-8381-4E40-8FE4-514BB719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4B39C7-9B2D-4367-B529-C9429588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DF879-A9D1-4B6E-8CD1-489E123C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75E5D-F695-4E9F-9094-1D256B8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1F36E-F3FD-46C1-9F30-ED32AB57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7A5BD-247A-455E-8E16-9649F60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4D648-A90F-4604-BF32-23638FB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BCA20-934A-4EFB-84A3-26CEF7E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D8692-D629-47B1-8CC9-AD28D62F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C0601-C50E-4240-9DCF-F1C3E6CD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553-1E11-484C-AC0F-2D8D9CA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C75-7C2E-470F-86CA-1AEE9A5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D4CFD-C92E-45F1-BE12-BC839BA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8A598-39D0-4278-8932-14B4F96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A414C-0203-4E83-B71F-D1771F5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D8B13-AF1E-4AD2-8FDF-EF41D37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B5B5A-2744-4945-905A-09BA132E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A3672-E153-4003-9DC5-DE084284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34878-1C08-49BF-BC33-C586D6A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B61F6-59E5-4815-9A0F-A846D520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3CB57-8324-4971-9DE5-118B9297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CBAE7-10AA-4360-9BD2-C4FBF1E5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1CD-2E19-4E43-B36E-D0A57A8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43ACFE-878F-4FF7-B998-E3A3730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CAFCB-184B-4132-A24D-48FEE2F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1254C-FCD7-4CC5-844A-389F0A96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1FFA6-C6E3-4636-A564-20D3BF07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35039-2ADE-4C26-9108-30F86F6A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1BBE9-32ED-4CEA-AC73-A35C728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95C53-A555-49BF-A7B4-3C3542E1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3819A-253A-4DCC-83CA-C51B2850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FC5AA-203E-4308-93C7-99CE4B3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58213-EB33-4B11-9232-FF3BFC44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6FD2-55B5-440C-AB11-05339E68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9F2031-DB7E-40B5-8C03-E37AA0B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AA1F2-592B-40B2-BEA8-3C93B9D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6E1215-7BFC-401E-AD9D-CB8BE95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C33CDD-7D3C-48A2-9111-4AA42A5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3326E2-B463-403C-ACEC-DC431CD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C2504-0EA2-4833-A330-9CC74E6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F725B-4216-43DF-8450-7A037FF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8C456-73FF-49FF-B276-9C3BD33F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80F0D-4D9A-431D-85B1-AEC13C30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59675-0085-41A5-BEAE-6A3E3512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E49-62C8-4F7B-B11B-0ED7B85E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A3BCF-E4E3-405C-B1DF-7C4FE4FA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C63A6-ABE3-4FAB-B141-C2F6C67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6EABF-84A7-4CD5-9809-0F3270B5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417C7-09E2-4EAF-99EB-D5658F3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B9DAF-7897-4304-BDE1-D3DBA20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32CB2-D6E0-430C-8549-9F3E91A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4ABD2D-90B5-4521-8667-6F0BE10C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E0729-1578-4C2F-B4D2-B8E6937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F26EF-11B3-423A-843C-E21244A3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DC293-857C-4967-AAE6-1D3D434F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2774-8907-4F40-AD2B-2F7A7A88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3C7B7-6875-4828-B4DD-FE950A35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900EAA-3D68-4075-8719-6B88294B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064E71-DD76-4D7E-A252-E3EC407C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DA36D-B617-4B9A-B9B3-5DEE750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0E424-FAFF-4DE8-B1D7-4E30803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EFDD85-9F5C-49DA-841C-D517A0FC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5A5EC-50E0-4F0A-BAE0-E200F4C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EC334-D14C-4C0F-B891-74FFE2F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08BA8-96EF-438C-8B92-6F8F0CD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5D3F3-3076-4AEA-B239-26DB5119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51C9-386C-4F77-97B1-F839C205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BEC66-ABD2-4CC2-BFF3-8CEC70A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1F847-D0AA-4225-B07C-7D4F5320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2176D-2685-4EDC-9DB3-CE96C241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6CFC3-3442-41F0-A1F5-2E4E7B43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23442C-0EBE-47A5-BEB2-C1F6A18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CA0632-9E63-4BB3-A94C-25E8A51B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8FD47-4D6F-4442-B7C5-688782F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0D4EBA-69E3-45D7-8F18-1F7F2E6A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4C3281-02D5-4BAE-8125-D1EFA29B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A6601-1614-4FD4-A7AE-3B9A297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76063-9AF1-4A49-89AE-753487C3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46ED8D-2055-4D7A-A61C-CE06273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1AE4BC-14D7-474E-B8FA-F5282D0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5F8B9-C336-4AC0-B6E9-0D6BCD6B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0D5D0-DCEE-457B-8250-492B9B33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E11F81-F677-4FAD-AAA9-4D496FA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52381-8BD5-48F3-8565-6C1A3127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08656-89E3-4379-BC12-E2FFD9F3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7A9447-351F-436A-AE6A-96A4F08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2616BA-7ECD-4694-AEF1-15F235B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D45F3-E14D-4874-9F53-E3DC7393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3854-A29C-4344-9178-E410627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1C4F8-1E72-4B91-A5E2-8B5336C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C7F58C-A177-4A6C-8EAA-9281786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4105F6-E3BA-423C-BD7B-A9BD3613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D36885-8614-4549-8022-204BC4A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04265B-B2B2-4528-8674-7BCDE52C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E9EF0-D01E-40B1-94C7-111E677B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AB3CA4-6996-40E9-BA29-6F2FDD04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8731B-623C-4D80-BDD5-3D21DCEB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381E-68D3-478E-9A7C-894E131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28D-66BA-4413-9947-992F52FA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FBB4-26EE-4D98-8044-91456EB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CD13-4AC0-43FE-867B-F1C07F9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B5A5-2239-4A4C-AFCA-7C0168A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2FD0-9621-493F-9120-10645E6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2A0FF-D47D-47ED-9BDB-1F154B4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5D54-7B8F-4C93-ABE7-CC5DA1F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CA33-7900-4459-B067-914FDF42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5ACD-2523-4089-AACE-38DCEEA9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28E2B-0E51-4594-84C3-F86DBA2F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B974B-3711-4D59-88FA-AEFBC6C4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32E-7CD5-4B53-8CBE-9FB6868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53AC3-E988-40E7-A053-6B824BD4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6927-3F3D-4474-AA88-1F39D8DA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D508-B061-4C88-96F2-51CF30FB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9FAE-575D-4E00-BFF1-7D1A1575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FCE7-AC17-45C9-A9B2-40FF5DF5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360C-6531-49B5-8C66-06E784FA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E152-2BC1-42D3-96F6-44B8AEF0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D7CC-E5AB-49E4-8197-7E9DADF0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46884-0BF9-474E-A744-1B77D07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B425A-99AE-4911-819F-9BAF36BB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2A8-359A-46EF-8253-12F7387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9C7D-EDB2-4CC2-A81C-F416DA1B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D7F7-AAE3-4E9F-A4D1-78DF1EC5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79658-B061-4BDE-AD22-28E301C3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E2464-D296-4858-8B8A-8D83BCC7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5055-6D16-4253-B30D-0593BF2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FDAA3-5A40-4F76-A772-831A422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060DC-803D-4DC0-BE58-EC692B74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6BFB-BD56-490E-B1DC-0ADF570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37255-2F6E-4C3D-BE70-62912D31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72517-4708-4F52-AE9D-4E0CCE1A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654-718D-43EF-935C-8CFBA1A4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2E58-1F3F-4A5D-8908-E89EDB39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FAE89-8B3D-4932-8B2F-DD7C73B8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1704A-B939-4830-975C-68DC0D68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4F8B-A5A2-4B09-AB6D-D73CD310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5556-C65B-4CF4-A21E-34D9A1E1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058C6-A194-4D96-B090-F4D10935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CB996-CB32-4DF2-8E68-91C50FD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957D0-C605-4ADC-B480-086DB68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FE6E-5CE4-461E-B535-C193D599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273A4-4B47-4689-A6C2-79CB07F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B28-1987-42CC-93EC-3D7D2F0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3B4F-B444-487F-AD2E-C755828A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CB09C-464D-4BAE-829A-916D5C0B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6B78B-5FE7-4EA7-A664-6AF01FD1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FCA6-A02F-40E2-BFEA-6D1984A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6E54B-E975-4603-95E8-F7DD3BB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8A674-5339-4F93-B24D-A43E9163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AD406-3F53-4F82-B534-7D926C77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9DC2-4D87-4289-8E82-3B0F9EB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6AB3-A831-4CEE-B7FF-CBF3255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65D4-CE2F-4068-BEE5-03C3128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D83-FB83-4FD7-B34F-668E223E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B3546-0F07-4528-B03C-FBC72B3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7A37A-6D21-47C1-A77B-F5867AD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5F1F-EB15-4451-911C-1E3CB98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961B-24AB-4CFD-A223-71E8E71C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8591-45EC-487F-A9E3-2478D963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4E950-9540-4BAA-A0C3-2206680A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6F080-CD6E-4050-8E98-BADA732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EBBD-6FAC-4379-9FF4-3C5EF9B1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91CD1-45BD-4D5B-9A51-865855F4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6B84D-38F9-4F98-9273-73BDF7F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3D1-627C-45B8-8737-7D8752BD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B441C-C2FB-492E-AD24-65B509F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6DCE1-0F4F-4719-88E6-A5401C1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8F4EB-8CF2-4EC4-A304-7251A8CE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9F2A8-B742-4DA3-BDDD-AFE745B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89CF0-423B-42F6-934A-B5BE589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4F28F-44E4-478F-8335-8EB9B2FF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6F30C-DF67-4460-88DD-76FD9EE5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B05C1-7BD4-4532-A4D7-C6F068C3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5ED7A-3240-43C5-ADFE-1C98FA4B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8EA1D-DEB3-4933-BA8C-84D68BE4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677-3732-47D5-8C4F-56D02F7899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62A3-6266-44DE-AA23-5365C9F2C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BAF-531C-41CB-8B6F-BC389830D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174-F501-41A9-9858-E9A31A3B7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A5B4-26A5-4686-8107-B106A8596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D71E-AF47-4604-9A35-2866B3963B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9808-3C2B-4B99-89D1-084F2C4A4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99D-8269-4205-8740-C447BBDABE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BC6F-D9BF-4A5E-8F5F-CD5B9F04D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F099-9857-4645-812F-2CBCE21E9D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EFED-1FB5-4F8B-92E8-E41213816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7FC-A033-48F0-A407-45C6E3416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98E5-A672-4D0A-8F33-D90E0A4B59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B667-B0B7-447C-B933-7920B8E925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643B-E823-4364-9F8B-62CF223C5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259-9D9C-4BDE-98F2-D3C51ADDD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C06-00AE-420D-ABE0-CEC4B894A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F18E-F909-45EE-BBD9-C7C9EB7CE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7F4B-384F-4DD2-8BA9-56FF76E87A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FED-A5A5-40D0-9D0C-C1956473B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9505-77D9-4FA0-90D4-7426CE1DE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D28-7117-4DBC-9EA3-A72AE9C9DC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DAC-4693-4241-B22C-E2D466254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CD9-B1D9-472B-94A1-6F8CB7050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951A-4F27-4BC2-A031-316570184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3336-7AB3-426A-BC01-14FEC8F85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DB9-D5FC-4E63-AB26-B1D9AC5256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E1E-D081-4C06-806A-46A0AE097A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232B-1C78-4F42-B7C0-318AA81BF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9A45-D9F1-4087-A77B-1EBD3B0A49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64D-C819-4A23-BD7B-548B4F3E9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4BFC-F33F-4A10-ABAE-9D1C95E59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5DFB-F141-463A-AEAB-810C5E2984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3299-616D-4FEA-8231-AA27BC7887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5C1-A4C9-499E-86C6-FF834C4FC3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9C8F-56C9-42E6-B73F-D665E41FE0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9B41-2AAF-4C67-894C-59E4EE3349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173-532A-4D8B-82E4-AC063AD7BD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8E8D-521E-48D2-807E-6F5CE8D49D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565-693D-45CE-B306-C29DB29D5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511-E32A-42AB-B8FA-A8750082D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4B6-B3B6-472A-B35F-F49099A72A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714240" y="2971800"/>
            <a:ext cx="771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47600" y="901800"/>
            <a:ext cx="8847000" cy="55245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468360" y="132228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395280" y="2017800"/>
            <a:ext cx="358920" cy="2887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395280" y="3141720"/>
            <a:ext cx="358920" cy="288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395280" y="3879720"/>
            <a:ext cx="358920" cy="289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5373720"/>
            <a:ext cx="3589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723960" y="1852560"/>
            <a:ext cx="7696080" cy="31528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5724360" y="3160800"/>
            <a:ext cx="1152720" cy="2887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6659640" y="3535200"/>
            <a:ext cx="1152360" cy="289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2627280" y="3898800"/>
            <a:ext cx="504720" cy="2890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4356000" y="4282920"/>
            <a:ext cx="863640" cy="289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3564000" y="4643280"/>
            <a:ext cx="720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71280" y="1519200"/>
            <a:ext cx="8999640" cy="38196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385920" y="186372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7524720" y="1873080"/>
            <a:ext cx="1511280" cy="289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395280" y="2440080"/>
            <a:ext cx="358920" cy="2887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7534440" y="2449440"/>
            <a:ext cx="1511280" cy="289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395280" y="3025800"/>
            <a:ext cx="358920" cy="289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7"/>
          <a:stretch/>
        </p:blipFill>
        <p:spPr>
          <a:xfrm>
            <a:off x="7534440" y="3035160"/>
            <a:ext cx="1511280" cy="2890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8"/>
          <a:stretch/>
        </p:blipFill>
        <p:spPr>
          <a:xfrm>
            <a:off x="395280" y="3602160"/>
            <a:ext cx="358920" cy="2887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9"/>
          <a:stretch/>
        </p:blipFill>
        <p:spPr>
          <a:xfrm>
            <a:off x="7534440" y="3611520"/>
            <a:ext cx="1511280" cy="289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10"/>
          <a:stretch/>
        </p:blipFill>
        <p:spPr>
          <a:xfrm>
            <a:off x="388800" y="4197240"/>
            <a:ext cx="358920" cy="2890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11"/>
          <a:stretch/>
        </p:blipFill>
        <p:spPr>
          <a:xfrm>
            <a:off x="7597800" y="4795920"/>
            <a:ext cx="151128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800280" y="1252440"/>
            <a:ext cx="7543800" cy="4353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1079640" cy="289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3851280" y="1989000"/>
            <a:ext cx="2592360" cy="2890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1979640" y="2727360"/>
            <a:ext cx="1008000" cy="2887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3780000" y="2717640"/>
            <a:ext cx="2592360" cy="289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1763640" y="3467160"/>
            <a:ext cx="863640" cy="28872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3203640" y="3471840"/>
            <a:ext cx="720720" cy="2890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5435640" y="3467160"/>
            <a:ext cx="720720" cy="2887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1619280" y="4211640"/>
            <a:ext cx="1944720" cy="2890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10"/>
          <a:stretch/>
        </p:blipFill>
        <p:spPr>
          <a:xfrm>
            <a:off x="1619280" y="4960800"/>
            <a:ext cx="720720" cy="2890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11"/>
          <a:stretch/>
        </p:blipFill>
        <p:spPr>
          <a:xfrm>
            <a:off x="3203640" y="4960800"/>
            <a:ext cx="720720" cy="2890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2"/>
          <a:stretch/>
        </p:blipFill>
        <p:spPr>
          <a:xfrm>
            <a:off x="5003640" y="4960800"/>
            <a:ext cx="720720" cy="2890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3"/>
          <a:stretch/>
        </p:blipFill>
        <p:spPr>
          <a:xfrm>
            <a:off x="6948360" y="4960800"/>
            <a:ext cx="72072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0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